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C36-7F50-45AD-A15E-CAC3FA37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91B3-D4A6-406C-9424-D9BF2904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68B-3B65-440C-85E7-66DE41DC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E05-C69B-40F7-9627-F2757981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39AE-2DD2-4407-8C4E-BAD8445E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7B06-646D-4BBE-B403-3AE7F83A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2FDF-9BBA-4D01-A071-0CB4693C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7529-66AC-4D16-AB92-0E7EA19D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F502-9E4D-494D-B372-30A366C9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5936-4966-43CE-8F01-0789ADAD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3DAE-3C06-49AD-8DC8-FE422473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3BE-F0FC-4D37-9576-055DA284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457C-85A2-499B-81AD-A7F42042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DE4A-5B31-419A-80F2-A85A0725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EC00-5011-4502-BA33-255FE12E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DAF6-5BB6-408D-94C5-FE3C1E37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49AE-455A-45D7-A504-81A7104E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C6D-3D0D-49F3-8D33-FCF063E1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7AE-3AE1-4E89-AEBD-902B2BED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0E3-75A8-4D82-8DCE-4442421E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FB5-8B35-4BE1-899F-9ABF507A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D95-8D27-497E-BE10-9E2F79AB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2B3-6658-4D2D-A4E9-82C96156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303-D286-44F6-9F90-19E1A253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D429-9A0E-4B5F-BD47-70A671851F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CCC1-9FFF-42D2-9887-F4148AF064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78040" y="3889080"/>
            <a:ext cx="604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grayscl/>
            <a:lum contrast="-6000"/>
          </a:blip>
          <a:stretch/>
        </p:blipFill>
        <p:spPr>
          <a:xfrm>
            <a:off x="5508720" y="1557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275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4:28Z</dcterms:modified>
  <cp:revision>31</cp:revision>
  <dc:subject/>
  <dc:title>SALARIUL</dc:title>
</cp:coreProperties>
</file>